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D25-28D1-4CDE-A367-990E6615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46C-F1A1-42A8-8BC7-43D3E941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288-9C1B-4C8C-9BCE-68E5E248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BCE-48A4-4CDF-A57F-A57E667F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91D-3F43-4857-9F9B-2E0F626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3A4-9EC3-400B-ABC5-EF6204A4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70F-144C-4D25-9373-399EB873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9B8-5994-4EE4-8B6E-44A6CAE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736-E5B8-4E94-ABC8-FCABFD06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978-A1E9-471B-91D6-2CFCBE8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E42-D6D8-4F84-88A9-3396C75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F37-058D-4F41-87B0-63A86D2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 April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852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usso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F70E-B400-4535-B5EE-6BE1EAF1F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77120" y="6188040"/>
            <a:ext cx="205740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cent Photomultiplier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ice Developm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2895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NNN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Zurich Cn BT"/>
              </a:rPr>
              <a:t>Robert Caracci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urich Cn BT"/>
              </a:rPr>
              <a:t>8 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6480" y="48769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LE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tial resolution can be tailored by choice of faceplate, MCP, and pixilated a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hoton counting properties at gains of 0.2 – 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 to Valley typically &gt; 2:1 with uniform illumination of face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put is relatively insensitive to external magnetic fields due to proximity of the cathode, MCP, and an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od pulse height re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% FWHM, 2” NaI crystal, 662ke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hode uniformity within 10% over full active are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ode uniformity ~ 1.5:1 over the 2” active area in analog m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oal is to obtain 1.2:1 anode uniform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oss-talk &lt; 1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acon Characteristics (cont’d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 with 32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itch, investigating the use of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pore s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:1 L/D ratio, probably moving to 60:1 for the 1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s of up to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current MC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ed dynamic range g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in is very stable up to ~3% of strip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vron config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proved Open Area Ratio Planaco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is streamlined to maximize detector area relative to device 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8” sq. vs. 2.50” sq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45” vs. 0.65” 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% vs. 66% O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8 gms vs. 128 gm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the anode configurations offe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Open Area Ratio for til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variants optimized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 counting with high spati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cross-talk and magnetic field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ogenic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-low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other geometries as required by specific markets and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ent PMT and Module Offering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, a low cost variant of the 857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ow material is 8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mbly technique is simplified for improved manufacturab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Q, Quartz faceplate for UV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75B-800, 8575B module with integrated HVPS and di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3092 module, short 1” tube for oil well logging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Modu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16000" r="0" b="1600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75B-800 Characteristic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uum potted – ideal for high altitude balloon pay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noise ( 10mV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power (12V @ 1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tage or resistance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arge Area PMT Pro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ely working on Phase II objectives of a DOE SBIR to develop a 20” diameter PMT with cost &lt; $0.75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ctive area, including VDN and cab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also develop 2”, 5”, and 8”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 to establish close ties with researchers associated with proton-decay and neutrino experiments to aid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a BURLE commitment to becoming a major player in the HEP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1828800"/>
          <a:ext cx="7772400" cy="4375080"/>
        </p:xfrm>
        <a:graphic>
          <a:graphicData uri="http://schemas.openxmlformats.org/drawingml/2006/table">
            <a:tbl>
              <a:tblPr/>
              <a:tblGrid>
                <a:gridCol w="2690640"/>
                <a:gridCol w="1046160"/>
                <a:gridCol w="747720"/>
                <a:gridCol w="32878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ectral Respo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&lt; 300nm not very useful due to attenuation length in 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hode QE at 390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llection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as high as possi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k C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c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– 4 kHz at 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it Time Spread (FWH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ire 3 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otocathode area, head-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zed to give lowest cost per unit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 Vol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uld be hig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outside – inside pressure difference. Could use acrylic pressure vessel if need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ck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DN + HV and signal cables, hermetically sea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emical resist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4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re H</a:t>
                      </a:r>
                      <a:r>
                        <a:rPr b="0" lang="en-US" sz="1200" spc="-1" strike="noStrike" baseline="-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otocathode Desig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for highest possible QE and lowest possible dark counts are in conflic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e-study will be performed and initial PMT builds will be designed to optimize these parameters. Dark counts of 3kcps are possible, but QE will probably be limited to 20%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ultiplier design will influence the dark counts, and will be considered in that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URLE INDUSTRIES Overview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nversion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 Tu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E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ELECTRO-OPTIC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Gmb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INDUSTRIES UK LIM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LE deMex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urrent Activit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ing with glass and bulb manufacturers to optimize cost-effective bulb design and manufacturing appro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A and environmental testing to validate mechanical integrity of bul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ing 2-D and 3-D electron optics mode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hode to Dy1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1 to the electron multiplier fiel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implement novel focusing elements.  Required for a bulb with a small ne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ated our design concepts on the 2” PMT.  Will continue with the 5”, 8”, and 20” PMT’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ing different photocathode processes and or design to optimize balance of QE and Dark cou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a high volume Manufacturing facility in Mexico to maintain production of PET and SPECT PMT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new product lines to further service both the Medical Imaging Business, as well as other applications including HEP, oil well logging, X-ray digitiz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Modules to make the application of PMT’s more convenient to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large PMT formats to service the HEP commun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re Competenci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ion Tubes, Lancaster 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ventional PMT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cathode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age tube design and fabr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T pack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nics: VDN, Miniature HVPS, Front-end 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Tubes, Lancaster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ign and fabrication of vacuum tubes for power generation and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ting and environment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amic-to-Metal joining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O, Sturbridge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rochannel 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nel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op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Marke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 Im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tain ~ 30% market share and gro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 high-volume tubes for both SPECT and P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presence in general spectroscopy, scintillation counting, and H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e begun to target the HEP market more aggressiv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the PLANACON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st competitive fast timing PMTs such as the 8575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BIR grant to develop large area PM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cent Product Developmen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T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naco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MCP-PM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c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quare fl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MT with dual MCP multipli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s, 2x2 and 8x8 configurations. Additional configurations avail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-alkali cathode on quartz faceplate or cryogenic bi-alka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asily tiled, low profile, photon counting, good time resolution, multi-anod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3720" y="2389320"/>
            <a:ext cx="4289400" cy="27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Construc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2549520"/>
            <a:ext cx="7467480" cy="1143000"/>
            <a:chOff x="914400" y="2549520"/>
            <a:chExt cx="7467480" cy="1143000"/>
          </a:xfrm>
        </p:grpSpPr>
        <p:grpSp>
          <p:nvGrpSpPr>
            <p:cNvPr id="59" name=""/>
            <p:cNvGrpSpPr/>
            <p:nvPr/>
          </p:nvGrpSpPr>
          <p:grpSpPr>
            <a:xfrm>
              <a:off x="914400" y="2549520"/>
              <a:ext cx="7467480" cy="914400"/>
              <a:chOff x="914400" y="2549520"/>
              <a:chExt cx="7467480" cy="914400"/>
            </a:xfrm>
          </p:grpSpPr>
          <p:sp>
            <p:nvSpPr>
              <p:cNvPr id="60" name=""/>
              <p:cNvSpPr/>
              <p:nvPr/>
            </p:nvSpPr>
            <p:spPr>
              <a:xfrm>
                <a:off x="914400" y="2549520"/>
                <a:ext cx="7467480" cy="147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1440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90360" y="2701800"/>
                <a:ext cx="15264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1440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9144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1440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9144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914400" y="3387240"/>
                <a:ext cx="7467480" cy="7632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153280" y="2701800"/>
                <a:ext cx="228600" cy="22860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2701800"/>
                <a:ext cx="15228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53280" y="30067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001000" y="29304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153280" y="3235320"/>
                <a:ext cx="228600" cy="152280"/>
              </a:xfrm>
              <a:prstGeom prst="rect">
                <a:avLst/>
              </a:prstGeom>
              <a:solidFill>
                <a:srgbClr val="ffe8d1"/>
              </a:solidFill>
              <a:ln w="9360">
                <a:solidFill>
                  <a:srgbClr val="ffe8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001000" y="3159000"/>
                <a:ext cx="380880" cy="76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8960" y="3006720"/>
                <a:ext cx="685800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18960" y="3083040"/>
                <a:ext cx="6858000" cy="75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3716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8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4280" y="3387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712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338760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72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292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0120" y="33876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562000" y="1863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e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080" y="47592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de &amp; P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6440" y="18288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um 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9040" y="464832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al M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60480" y="42260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P Re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7400" y="4073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 Ins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43800" y="3083040"/>
            <a:ext cx="68580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1066320" y="2930040"/>
            <a:ext cx="762120" cy="1295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429000" y="3083040"/>
            <a:ext cx="304920" cy="14889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10080" y="3463920"/>
            <a:ext cx="38124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66320" y="2244600"/>
            <a:ext cx="76212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62360" y="2244600"/>
            <a:ext cx="60948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6280" y="52992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ing between faceplate and MCP and MCP and anode can be varied for differ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MT Construction/Processin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multiplier is supported by bulb spacers and leads to the 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elope is evacuated through an exhaust tub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hode processed in-situ with Sb and alkali dispen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-off of tubulation using flame or electric he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8240" y="247644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24764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4120" y="24764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2590920"/>
            <a:ext cx="0" cy="240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334120" y="4875840"/>
            <a:ext cx="22752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162920" y="4875840"/>
            <a:ext cx="22824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8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124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5105520"/>
            <a:ext cx="22824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477120" y="5105520"/>
            <a:ext cx="227520" cy="22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52196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733920"/>
            <a:ext cx="1143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9920" y="3962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680" y="3276000"/>
            <a:ext cx="9136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019920" y="40759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0" y="430524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362640" y="430452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53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315200" y="35049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34040" y="3505320"/>
            <a:ext cx="11448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429000"/>
            <a:ext cx="106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b b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48440" y="3733920"/>
            <a:ext cx="11448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038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k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76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5219640"/>
            <a:ext cx="762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1240" y="56386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haust tub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447880" y="25909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48520" y="2590920"/>
            <a:ext cx="10285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25909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3619440"/>
            <a:ext cx="228600" cy="3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038480"/>
            <a:ext cx="304920" cy="38124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2514600"/>
            <a:ext cx="16002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200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yn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3505320"/>
            <a:ext cx="10666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1981080"/>
            <a:ext cx="1790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hotoca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3733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38680" y="37339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9528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41911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05320"/>
            <a:ext cx="7596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3333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CP-PMT Oper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4920" y="2427120"/>
            <a:ext cx="2273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e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cath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0520" y="342900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al M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760" y="510552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3560" y="3505320"/>
            <a:ext cx="4952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3560" y="3657600"/>
            <a:ext cx="49528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05120" y="2818440"/>
            <a:ext cx="4952880" cy="75960"/>
          </a:xfrm>
          <a:prstGeom prst="rect">
            <a:avLst/>
          </a:prstGeom>
          <a:solidFill>
            <a:srgbClr val="ff0066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0960" y="2895480"/>
            <a:ext cx="3038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3505320"/>
            <a:ext cx="152280" cy="15228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257800"/>
            <a:ext cx="502920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71840" y="5334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00240" y="3657600"/>
            <a:ext cx="1980720" cy="3047760"/>
            <a:chOff x="3000240" y="3657600"/>
            <a:chExt cx="1980720" cy="3047760"/>
          </a:xfrm>
        </p:grpSpPr>
        <p:sp>
          <p:nvSpPr>
            <p:cNvPr id="172" name=""/>
            <p:cNvSpPr/>
            <p:nvPr/>
          </p:nvSpPr>
          <p:spPr>
            <a:xfrm flipH="1">
              <a:off x="3990600" y="3657600"/>
              <a:ext cx="152280" cy="152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457440" y="3809880"/>
              <a:ext cx="10663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58160" y="3809880"/>
              <a:ext cx="10656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00960" y="3809880"/>
              <a:ext cx="198000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00240" y="3809880"/>
              <a:ext cx="198072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76236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2720" y="3809880"/>
              <a:ext cx="456480" cy="289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5800" y="4267080"/>
            <a:ext cx="19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in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27440" y="297180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elec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44960" y="29718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4960" y="434340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45320" y="35053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~ 2000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62520" y="1752120"/>
            <a:ext cx="330120" cy="914760"/>
            <a:chOff x="3962520" y="1752120"/>
            <a:chExt cx="330120" cy="914760"/>
          </a:xfrm>
        </p:grpSpPr>
        <p:sp>
          <p:nvSpPr>
            <p:cNvPr id="185" name=""/>
            <p:cNvSpPr/>
            <p:nvPr/>
          </p:nvSpPr>
          <p:spPr>
            <a:xfrm>
              <a:off x="3962520" y="1904760"/>
              <a:ext cx="330120" cy="457200"/>
            </a:xfrm>
            <a:custGeom>
              <a:avLst/>
              <a:gdLst/>
              <a:ahLst/>
              <a:rect l="l" t="t" r="r" b="b"/>
              <a:pathLst>
                <a:path w="208" h="288">
                  <a:moveTo>
                    <a:pt x="112" y="0"/>
                  </a:moveTo>
                  <a:cubicBezTo>
                    <a:pt x="56" y="16"/>
                    <a:pt x="0" y="32"/>
                    <a:pt x="16" y="48"/>
                  </a:cubicBezTo>
                  <a:cubicBezTo>
                    <a:pt x="32" y="64"/>
                    <a:pt x="208" y="80"/>
                    <a:pt x="208" y="96"/>
                  </a:cubicBezTo>
                  <a:cubicBezTo>
                    <a:pt x="208" y="112"/>
                    <a:pt x="16" y="128"/>
                    <a:pt x="16" y="144"/>
                  </a:cubicBezTo>
                  <a:cubicBezTo>
                    <a:pt x="16" y="160"/>
                    <a:pt x="208" y="176"/>
                    <a:pt x="208" y="192"/>
                  </a:cubicBezTo>
                  <a:cubicBezTo>
                    <a:pt x="208" y="208"/>
                    <a:pt x="32" y="224"/>
                    <a:pt x="16" y="240"/>
                  </a:cubicBezTo>
                  <a:cubicBezTo>
                    <a:pt x="0" y="256"/>
                    <a:pt x="96" y="280"/>
                    <a:pt x="112" y="28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0360" y="2361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140360" y="1752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942720" y="1905120"/>
            <a:ext cx="15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905120" y="2666520"/>
            <a:ext cx="495288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ny Brook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 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7:03:25Z</dcterms:created>
  <dc:creator>Robert Caracciolo</dc:creator>
  <dc:description/>
  <dc:language>en-US</dc:language>
  <cp:lastModifiedBy>caracciolor</cp:lastModifiedBy>
  <dcterms:modified xsi:type="dcterms:W3CDTF">2005-04-08T10:17:51Z</dcterms:modified>
  <cp:revision>82</cp:revision>
  <dc:subject/>
  <dc:title>NNN05</dc:title>
</cp:coreProperties>
</file>